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BBA-A263-4C30-8A51-9363CD432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6C1C-E305-4062-B9E2-1A2762B6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B1E-DF05-4081-B93C-62DA4AC91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18B-64B7-45E6-B731-4A246B3FE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7A5-14AE-43A3-ADD9-D39EB4C3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E14-44EF-4E4C-9242-096818B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BA624E-A2BA-4B8F-814C-97F6367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E34CB-845C-4631-8A3A-D46026A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D2690-21D8-49BE-8BD2-64422AAE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D3B06A-048D-45E6-BEBF-E12F83E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6DE5F-AD58-4901-B0FE-32DC242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278BF-1F78-44C1-9D03-E39AD9C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57C70-38F1-40D4-8182-5A1073D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C210B-B5EF-4E58-9A45-9288B5D2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32B23-B01E-4CEB-8475-E6B1F1A7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694040-6466-4186-895E-7B34F505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347-39C7-40F4-AC3B-0B1D66B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F97EA7-8698-4174-8AA7-E9E6931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42AA86-6195-4373-BB95-F7F4987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112A3-E163-4479-A1BC-F3F70646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FC5DD1-059B-45BD-811F-2E9FD15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FF1D0-428B-403D-9DD2-5102C90F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1EF42-BA56-4CF7-9FDD-7482691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389D9-990B-41B1-8776-9E7EF99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44F793-D2C3-49A7-957A-A314855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9BF6A-F327-4C3D-B84D-50DE92ED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C40DD7-3A6B-4728-A5DE-2DFD1AB0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A21-4215-41E8-8216-28B794E8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C4001-30E0-453D-9188-B620C192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54AC5B-3528-4283-A2B6-702CEE6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81B36F-49AC-4E8A-8998-59F06B3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0711B-78D8-4586-9A56-3C40A73A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0063B-C91C-4457-9A78-00BDC7C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BA953-5862-4291-AFD5-CF6BBD3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5109A5-0F73-4CFD-B0CF-A2E4A5A9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E0C4D6-F602-4E6B-9EE0-436A8E5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B8F549-CE73-41EB-AC00-7844E42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31CF0-213A-4FE3-A665-5CA7E16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D30-7EC8-4234-9886-8D814D8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4D6A0D-568C-46B1-9A69-C32AAB7B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358AE-BCD8-4F87-ADC6-46F88A81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24FE1E-16EF-432F-9ADE-1F7E210C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727EA3-520B-4DA0-AE29-CADCE25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7D16DB-D004-4A1F-8961-0430CC74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8CCFDC-61E2-4985-80BD-F86EB97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10C85C-3B58-43A8-8853-3E9DC918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B5AC9-1B53-4ED9-8052-36CC3FD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4A2B11-18BF-421E-8092-6F4DEC1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827D16-C609-4BF1-8577-3290C90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1D6A-7CDC-4DA1-88FD-D2A6D1F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E78112-F814-411D-96FE-39205EB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4B4E50-0683-4084-B847-0E5FDD8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2C814F-782F-4EC8-A59D-2D6AE30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C7B65-C2B3-4E17-860E-77345A8A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835D09-6AE0-4A0C-BB1E-EB14412D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C4F49-DF44-41B5-BEC2-CB01D5C1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6B13A0-802A-4D54-A5F1-2301032E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A6BD97-5CE9-4F3D-9B3C-063969CD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7B632-7A39-4EE0-B0D2-01E8AC28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853FEC-1E52-4483-A82B-9FE29F9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CBE-E1A1-4ACC-9AC2-3072AE1D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51F80-AE82-40AB-BC6E-D1A84A1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45B0D-2547-4A4C-A9BD-BBB4998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45D865-A069-441C-9C54-ACD4A2B0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48052-BE4E-4185-9AB0-D8CD9CE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960654-EB32-45DA-80B7-F9A03E1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0A2862-F82F-4DAF-A151-AB8F5DAF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560B4-BF18-49A1-BC4A-860F65E6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97D34C-0ACE-43B2-8943-3FEFA979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4D8A5F-90F9-409F-BA46-FAFDEE6C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04B5CC-A648-4170-A2C3-F13FB83A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E39B-7C10-4C80-A398-C9F09977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CF2BCA-0F68-4D03-B133-9F44CB0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5D9E36-965A-44D9-8248-6193170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B3776D-EC60-4DBC-AACA-680D922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5727A3-DB45-443B-BC3F-5C212AA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DC7959-FFE9-418A-A2BB-81677F8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CB9E55-D518-4D64-AA1D-0C86AFE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946295-F8C7-4281-9E5B-CFF5C83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5BB480-F585-47E6-943A-F9F99481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A1A1FB-9A40-45C1-A124-91C4EF7A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BF1085-9EAD-4621-B9CF-CFE057A7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781-F31A-489E-B84D-EA84550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CB75EF-21CA-48F2-B651-CFACE33B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4FBE46-F7CA-414B-BE59-975FF67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A0103D-EE13-4145-95A0-021E682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404F18-790A-43EC-A468-DFC685E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0788A5-B988-40D7-8345-FEF69C4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3F923B-C974-47B5-95D6-ED009420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CD6A37-F2F3-484C-88D2-A42FC2B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D72DA8-4371-4917-BA6B-339E11B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B80489-757B-4BE6-BEFB-E36D44E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086DE9-EADB-4DFA-BAFB-32542A10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86A-589C-4AA3-9F18-EEDD781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527959-4103-40F0-8067-F6F2B680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533D-5288-4B7E-8F29-E9A51E4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809-FF05-401D-A839-70937F1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2201-A574-41C8-A01C-30594E4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6CD-AE68-4360-8B04-1B7CF67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C9B2-2039-4C63-A7DE-0EEDD44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9F8D-CCBD-419E-89C1-0BE0A6DD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2B34-6B74-42F8-B44D-4968281E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6279-ADC0-48E0-8A8F-F95B176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9C98-A02D-4167-8E36-566D9580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3946-F9F9-4E83-B6D7-4DA2FBE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9B12-778B-45BE-842E-0B00A2E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2CB6-B755-4E2C-96CE-E849DC74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C2C-58FA-4110-89F4-4AE11FB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B3EE-8DEE-4D3B-8DB6-E095C74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7FD0-3650-418D-B038-597E13A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69C9-59E1-4E80-85DA-D8672F5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C924-FBF9-4BF2-93F3-5E0B546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3D8C9-B1BC-4C80-9B78-5B9110DB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7FEC-4252-498D-8542-FA30CBE1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83AE-59E6-4D68-8C65-84C0E131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087-E116-4A2F-80AD-F8EBBDB4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EF183-0B90-4F88-89C8-B96D3BA6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258-8470-4FBF-A4A2-C69D908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CC17A-5322-4011-8A91-9FD834E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FAE76-FEDA-4A7C-A4AA-A6B83A8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A0135-FBB2-484D-84FD-0CE6230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47D7E-D2F0-424F-841F-96952DAF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63472-1718-4919-87BE-DDF696C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D2234-A01A-4EFA-A72D-87E4553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2E13B-AC02-49AE-AB45-18D938A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C2861-326F-439B-95D8-9D12885C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CE226-ACCC-41B6-8FFD-60D5108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C82C8-1652-44A9-8715-45EBBD69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D94-B649-4A56-B2B6-04A41E76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9F598-5A72-46FF-B07F-D6FEFC38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7EFC9-721F-4D85-9787-F40A69C5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F4410-293B-4AF9-B9D5-4F63B238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8843B-0BA6-4AE5-B647-97A2926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82E96-F80D-4819-A899-BD8C9D7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A38CB-81AF-4557-BE91-379B38E5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C8AAE-4657-48EA-9088-33FBAF8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47C2B-3A2B-454C-8189-AD52D70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74754-7631-4E2E-AFF8-C9E20FF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3DD49-729D-4A5E-A77C-734EFD1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CAD-2296-480C-9FA3-6BA2BD5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C05E0-1BD6-415E-9E53-A0DFFA3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78C84-A208-4E86-8895-E222603C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9A02B-F50C-46EF-8606-31B2C2EC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C21C5-A9F5-4559-8BE7-6EBAA78F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27188-4086-430B-8950-306CECF6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9BBD1-9216-46FC-BA4F-81677CB0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0F3BB-E8A9-41AA-98B3-C5AB08F2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6D7CC-C87E-4F5E-81FC-9F9BEBA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B42D2-A499-49A1-B351-53CF9E4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86144-A616-41EC-8037-E999D5F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2DA-CC33-419C-B958-BC69B77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31908-EFE0-4453-81E1-BABABE3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EEB9D-B3E3-442B-B2A0-0001A3FA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6C7A9-6B3F-4557-A159-AA506DEF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4D517-AC18-4BD5-BBAA-A788F668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79EBA-CE93-490D-9C38-A8F53288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C4884-1D29-426B-AF92-4F02252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7E542-9FF0-40B1-9FD4-2526A66B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20E578-B469-445D-8F4C-0C9EC533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121AD-4552-4FCE-A338-5582AFC8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DD6B1-1762-4560-8E12-6EA63FD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B17-F64E-4432-A88B-0EA25F9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D0D9D-3465-496C-9397-B46AE18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094F11-619C-4A82-86B3-458057E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2F967-04CE-4ACD-9B76-3A90EA1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DDC2D-E2D8-489F-B6F9-9E6F193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0A28E-4A01-458B-AC94-0F86B41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086D5-6B35-4859-8573-9489799E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C30C0-C051-4318-B3A9-32DCBD4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37302-5222-4C59-BF51-E304F1C9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D45B1-2793-4CAD-9D1A-A787FCF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E22C8-5E94-43B7-80F5-B73C81DC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25F8-B754-481C-8FD2-3E04B97EC6F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11D-4B76-4101-A921-69C9FA305CA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A754-E6A4-44F3-8083-2B5E9C9BCC7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B5A8-0B52-49DD-A986-4FA56CD19F2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573-5645-4672-A7B6-68CE177CFD6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C9E-D653-4AF8-A43B-972562A8FB8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E016-4DD5-4DCC-9400-9C4223C9A17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2C7-E238-4D58-8A0C-C83E1FB6DC8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6FB-46C3-4FA4-AA5E-13B210E41D0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CF81-A146-40E0-A720-2708EABEE4A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247-F574-4FCC-A447-8A6B83CBF0C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F25-5656-4018-869D-1A122B0EBCE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3D3-9BCC-4923-B906-AF0C07E72E1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32E5-A297-4F3A-B2B9-FF286BAA8A2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E86-BC1E-4CB9-B08F-51609216F7D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349-B5E7-443E-9AB3-3470526F02D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0BD1-AA92-49D3-8823-06AE257FC36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690F-C90B-49E5-9CA2-2157401480A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B13-28BF-464D-AFB0-C78B52AFE8D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954-EB5C-4A95-8897-F4BF387D657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A82-8127-43D8-939A-676BE39AF9D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4272-2470-43C9-B1C9-5D96F75CDAD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A69-B4E4-4792-A525-3B1F2572424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7D6A-DD2D-4661-AA30-78E56F57E6F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896-EB28-4CFB-9001-825569FB5DD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297-51D3-4626-B91C-0488169CB19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407-647C-47FD-9A95-45C25BCFA23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86C6-EA41-4ABE-8D88-34F050654BD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D55-F9FD-4ED4-8248-3887F0365BD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680040" y="304920"/>
            <a:ext cx="42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Vocabul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685800" y="1600200"/>
            <a:ext cx="5562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AN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345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sto MT"/>
              </a:rPr>
              <a:t>RELATIONSHIP OF A T ACCOUNT TO AN ACCOUNT FORM</a:t>
            </a:r>
            <a:endParaRPr b="0" lang="en-US" sz="26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00000" y="3134880"/>
            <a:ext cx="734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Picture 3" descr="D:\C21 PowerPoint\Multi_Journal\art for blue\Ch05\Ch05-01a.jpg"/>
          <p:cNvPicPr/>
          <p:nvPr/>
        </p:nvPicPr>
        <p:blipFill>
          <a:blip r:embed="rId2"/>
          <a:stretch/>
        </p:blipFill>
        <p:spPr>
          <a:xfrm>
            <a:off x="457200" y="1220760"/>
            <a:ext cx="4648320" cy="2811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D:\C21 PowerPoint\Multi_Journal\art for blue\Ch05\Ch05-01b.jpg"/>
          <p:cNvPicPr/>
          <p:nvPr/>
        </p:nvPicPr>
        <p:blipFill>
          <a:blip r:embed="rId3"/>
          <a:srcRect l="49228" t="0" r="0" b="56966"/>
          <a:stretch/>
        </p:blipFill>
        <p:spPr>
          <a:xfrm>
            <a:off x="463680" y="4344840"/>
            <a:ext cx="6591240" cy="22845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7513920" y="624924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HART OF ACCOUNT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9" name="Picture 3" descr="D:\C21 PowerPoint\Multi_Journal\art for blue\Ch05\Ch05-01c.jpg"/>
          <p:cNvPicPr/>
          <p:nvPr/>
        </p:nvPicPr>
        <p:blipFill>
          <a:blip r:embed="rId2"/>
          <a:srcRect l="0" t="0" r="0" b="11583"/>
          <a:stretch/>
        </p:blipFill>
        <p:spPr>
          <a:xfrm>
            <a:off x="609480" y="1600200"/>
            <a:ext cx="7772400" cy="41972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4"/>
          <p:cNvSpPr/>
          <p:nvPr/>
        </p:nvSpPr>
        <p:spPr>
          <a:xfrm>
            <a:off x="7666200" y="726840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ACCOUNT NUMBER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2" name="Picture 3" descr="D:\C21 PowerPoint\Multi_Journal\art for blue\Ch05\Ch05-01.jpg"/>
          <p:cNvPicPr/>
          <p:nvPr/>
        </p:nvPicPr>
        <p:blipFill>
          <a:blip r:embed="rId2"/>
          <a:stretch/>
        </p:blipFill>
        <p:spPr>
          <a:xfrm>
            <a:off x="457200" y="3429000"/>
            <a:ext cx="8229600" cy="10447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751392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60948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in a General Ledger are arranged in the same order as they appear on financi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OPENING AN ACCOUNT IN A GENERAL LEDGER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6" name="Picture 3" descr="D:\C21 PowerPoint\Multi_Journal\art for blue\Ch05\Ch05-01d.jpg"/>
          <p:cNvPicPr/>
          <p:nvPr/>
        </p:nvPicPr>
        <p:blipFill>
          <a:blip r:embed="rId2"/>
          <a:srcRect l="0" t="4600" r="21070" b="0"/>
          <a:stretch/>
        </p:blipFill>
        <p:spPr>
          <a:xfrm>
            <a:off x="457200" y="2320920"/>
            <a:ext cx="8199360" cy="317196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4"/>
          <p:cNvSpPr/>
          <p:nvPr/>
        </p:nvSpPr>
        <p:spPr>
          <a:xfrm>
            <a:off x="7429320" y="68875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1, page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18"/>
          <p:cNvGrpSpPr/>
          <p:nvPr/>
        </p:nvGrpSpPr>
        <p:grpSpPr>
          <a:xfrm>
            <a:off x="1600200" y="1782720"/>
            <a:ext cx="533520" cy="837720"/>
            <a:chOff x="1600200" y="1782720"/>
            <a:chExt cx="533520" cy="837720"/>
          </a:xfrm>
        </p:grpSpPr>
        <p:sp>
          <p:nvSpPr>
            <p:cNvPr id="729" name="Line 9"/>
            <p:cNvSpPr/>
            <p:nvPr/>
          </p:nvSpPr>
          <p:spPr>
            <a:xfrm>
              <a:off x="1863720" y="2163600"/>
              <a:ext cx="0" cy="45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"/>
            <p:cNvSpPr/>
            <p:nvPr/>
          </p:nvSpPr>
          <p:spPr>
            <a:xfrm>
              <a:off x="1600200" y="17827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7"/>
          <p:cNvSpPr/>
          <p:nvPr/>
        </p:nvSpPr>
        <p:spPr>
          <a:xfrm>
            <a:off x="165960" y="5668920"/>
            <a:ext cx="37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67400" y="6032520"/>
            <a:ext cx="42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19"/>
          <p:cNvGrpSpPr/>
          <p:nvPr/>
        </p:nvGrpSpPr>
        <p:grpSpPr>
          <a:xfrm>
            <a:off x="7848720" y="1782720"/>
            <a:ext cx="533160" cy="837720"/>
            <a:chOff x="7848720" y="1782720"/>
            <a:chExt cx="533160" cy="837720"/>
          </a:xfrm>
        </p:grpSpPr>
        <p:sp>
          <p:nvSpPr>
            <p:cNvPr id="734" name="Line 13"/>
            <p:cNvSpPr/>
            <p:nvPr/>
          </p:nvSpPr>
          <p:spPr>
            <a:xfrm>
              <a:off x="8118360" y="2163600"/>
              <a:ext cx="0" cy="456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7848720" y="178272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2:37:10Z</dcterms:created>
  <dc:creator>Mary Colleen McLaughlin</dc:creator>
  <dc:description/>
  <dc:language>en-US</dc:language>
  <cp:lastModifiedBy>David Combs</cp:lastModifiedBy>
  <cp:lastPrinted>1999-03-30T06:18:03Z</cp:lastPrinted>
  <dcterms:modified xsi:type="dcterms:W3CDTF">2012-10-04T21:37:12Z</dcterms:modified>
  <cp:revision>17</cp:revision>
  <dc:subject/>
  <dc:title>THE ACCOUNTING EQUATION</dc:title>
</cp:coreProperties>
</file>